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4607-E28D-46AA-9313-B16619E15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1865-9D4E-4298-B410-D747C4075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B3BD-190C-4960-9AEE-55A481C3D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F1B3-A6CF-4E22-9D89-AA9041D79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B02-0EFE-4004-A34A-CEA3F361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AD0-CF16-4A58-9D1C-3C1BEFBB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800-509A-4881-B223-3D601267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648-6BFD-47D4-8662-CF42C5AA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F9D-25AC-45B5-A845-9BAB48E1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AB7-5E65-4872-940A-14E70510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D34-F2BF-4814-9DE9-56449F77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2A4-5450-47A5-9A49-0047A95C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B37-5D86-4E5E-9428-ABACD27F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25B-E86A-4684-96FE-FA5AE3EE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CB2-F956-41CA-871A-2A2E0775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BE6-3BB5-46C0-923D-26C3A552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E7DC-33A9-4969-94A0-E575287E5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4.xml"/><Relationship Id="rId13" Type="http://schemas.openxmlformats.org/officeDocument/2006/relationships/slide" Target="slide9.xml"/><Relationship Id="rId14" Type="http://schemas.openxmlformats.org/officeDocument/2006/relationships/slide" Target="slide14.xml"/><Relationship Id="rId15" Type="http://schemas.openxmlformats.org/officeDocument/2006/relationships/slide" Target="slide19.xml"/><Relationship Id="rId16" Type="http://schemas.openxmlformats.org/officeDocument/2006/relationships/slide" Target="slide24.xml"/><Relationship Id="rId17" Type="http://schemas.openxmlformats.org/officeDocument/2006/relationships/slide" Target="slide5.xml"/><Relationship Id="rId18" Type="http://schemas.openxmlformats.org/officeDocument/2006/relationships/slide" Target="slide10.xml"/><Relationship Id="rId19" Type="http://schemas.openxmlformats.org/officeDocument/2006/relationships/slide" Target="slide15.xml"/><Relationship Id="rId20" Type="http://schemas.openxmlformats.org/officeDocument/2006/relationships/slide" Target="slide20.xml"/><Relationship Id="rId21" Type="http://schemas.openxmlformats.org/officeDocument/2006/relationships/slide" Target="slide25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" Target="slide16.xml"/><Relationship Id="rId25" Type="http://schemas.openxmlformats.org/officeDocument/2006/relationships/slide" Target="slide21.xml"/><Relationship Id="rId26" Type="http://schemas.openxmlformats.org/officeDocument/2006/relationships/slide" Target="slide26.xml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0" descr="mels_question_md_blk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j/Adv Cla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N or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r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62" descr="ReverseLogo"/>
          <p:cNvPicPr/>
          <p:nvPr/>
        </p:nvPicPr>
        <p:blipFill>
          <a:blip r:embed="rId27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209680" y="1752480"/>
            <a:ext cx="541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person whom the police arrested turned out to be innoc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2209680" y="17524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washer will stop if the door is open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209680" y="17524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patient grows stronger every 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209680" y="17524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color of that blouse is unbecom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09680" y="1752480"/>
            <a:ext cx="4724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executive remained an officer even after her retir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447920" y="1752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Tigers are the team to be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066680" y="17524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singer appeared nervous before the concer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2209680" y="17524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hyllis’ parents brought her a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cupcak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209680" y="17524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arren gav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he teache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is first draft this mo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209680" y="17524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as anyone given the dog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 bath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is wee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209680" y="1752480"/>
            <a:ext cx="60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everal members of that family have served in the milit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209680" y="175248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famous chef served the guests an elegant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me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209680" y="175248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campers gave th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ear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some hone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240280" y="17524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Moving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always troubleso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209680" y="17524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sitter soothed th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frightened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chi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209680" y="17524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 Davy’s dream, he rode on a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flying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carp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600200" y="1447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 helped Phi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o rak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y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178000" y="1752480"/>
            <a:ext cx="50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he was silly for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running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209680" y="175248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earchlights from the rescue ships flashed across the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209680" y="17524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hilip or his brother will surely help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209680" y="175248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utside my bedroom window blooms a beautiful lilac bu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209680" y="17524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ere comes the President’s helicop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209680" y="1905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 one may enter the studio while the red light is 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209680" y="175248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pictures came out badly because the lighting was po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209680" y="17524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ad needs a secretary who can speak Portugue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21:23:54Z</dcterms:created>
  <dc:creator>Philip Bigler</dc:creator>
  <dc:description/>
  <dc:language>en-US</dc:language>
  <cp:lastModifiedBy>Katie Hausauer</cp:lastModifiedBy>
  <dcterms:modified xsi:type="dcterms:W3CDTF">2013-11-20T19:34:48Z</dcterms:modified>
  <cp:revision>7</cp:revision>
  <dc:subject/>
  <dc:title>Slide 1</dc:title>
</cp:coreProperties>
</file>